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7BA-DC3B-4C9A-811C-803C6EC0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442E-7F11-463C-99C1-BBC3801C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04089-CF8B-4A6C-80AB-FDB5AC45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38669-599B-4040-899C-8C742F43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BA63D-27C2-4638-8492-EFCDC38A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DB142-7AEA-442C-A932-D7642C44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29C41-5BA6-4A8B-AB78-778E2310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B4CE2-973E-45DC-BB83-8D99A5A7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47F0C-C31D-4169-8EE2-7E03EC2C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F82E7-EE15-4EC4-B9F6-E07C9C6F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72457-DE4D-4D8F-996A-94490CC7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A8504-3F27-49C3-84DC-9DDB6FDD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C79-178C-4D6A-BC7E-9E95343F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5F2CB-2997-494F-A606-4AB6721C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24D39-A5F6-4BBD-B376-1E4BB9F3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6C831-4BC9-488B-A386-18B907C2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75E17-1FDA-4744-9294-70F2F3EF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6048E-EA65-401A-A890-18CA7532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F9116-91C0-40AB-B7AC-85EA7D31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2E715-53FF-4E74-BB3D-C70E1C3E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5C3CE-5E31-4182-A351-6A029BAF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6F995-9589-466D-91CC-2F2B72ED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73A02-F98D-496E-A5D7-ABEB6EFE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241-3DEE-4229-B181-05A99F99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F02D6-4948-4CB0-87E7-21E0BF09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62F56-8AAA-493F-967F-ABE97EF0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19DB6-5CD6-4A97-B094-4EA0C350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D7ECD-2EFC-4817-9A47-E0449C88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682E0-E463-43DE-B861-3A8FCB02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479B1-FD50-49CC-9BDD-0BF5D3C6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9271A-66DB-4D79-A8FB-22FE7772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B9348-A7EC-491A-BCFE-D21DFA21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A2C34-F78E-4759-9B44-65473472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DE8A1-A6B7-4665-9242-50BD0C3B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0124-208B-4DF3-A772-E7ED5838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E18AA-54FE-417D-A5C3-8804F0AD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4F108-A922-4D5E-A098-7BDF80E7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AD29A-AC1F-4CC8-9AC6-4D29EC09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E3437-E62E-4C90-BF88-58D5DA89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EA0F9-E6F9-4EB0-A45A-2A347B7C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133EE-3A01-4C3E-8E3D-39492AE2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E5A7D-9601-403F-950F-A184C96B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A3208-36D9-4FFD-A005-5B4C0CA1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77498-567E-4106-9E6D-99F27DC8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73F19-F127-42B7-B185-B5654416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10D6-CDE1-403C-920C-67CA9834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0E42C-9D41-4931-BFCA-CB41B8A0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6F224-A3C6-412E-9B63-A5C360C7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C20BB-560C-4900-93CD-ECBCCE2E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5C7EA-2E0E-48D5-99A9-0C47B1E1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13F09-84BA-417A-89CD-AD3A9EC4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C48F88-EC10-471D-8B6B-AE38263F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E7B8CA-A840-484F-BAF4-C0DC5CA4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540C5-D1BA-4FBC-83E5-40EF5894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F51F7-2304-44F8-97C6-64539E6F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70ABB-D457-4918-81BA-6A334DA7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5733-A72F-4E2C-8FF3-3C0DE63B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678A57-35DD-4857-81EA-89DA81A5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5A188-6CC9-4621-BAD2-98E4E385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CB7AF-56BB-450D-BF87-EE400623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6EFCA-D51D-46A4-83BA-327716FE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4342F-6EBE-447C-9145-031FD71B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F884C-8B03-458A-A679-82EA27F6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B2A03-DB74-4758-A677-3886CFD7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A3022A-A1FA-42A1-BB5C-B45384FC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FB5B08-3901-40CC-9CB9-E63799A2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D32D07-7C74-4238-AE9B-1FBDF801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2926-B547-4588-8A9A-4492FCC6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B6644E-DF6B-4B38-8581-7BFD0471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57DCE0-8FED-47F2-9DF1-E8E38C08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9876A7-293F-4EFA-BB20-BBAA6FEB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E783FC-9824-4682-B257-0190D94F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6FC5CE-8050-497E-9B3D-1BFACA7C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685D80-0928-403F-A9EB-251F285B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116E13-D5F7-4650-BDBA-62BBD41D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36D4F1-C98A-45E2-B3C0-14F1A1CB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FE7AE0-7848-4AA9-9DD3-51B3148D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4E8ED1-3093-4B7D-ADFC-F86EFD7C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5991-AB6F-41C2-B40F-347C4365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D72C88-B65A-4750-AACD-129FFD96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A7DB30-EBDA-4005-A432-C4976B27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7C0451-4837-49D8-8B9D-7A6198B5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FF51D7-7B2C-457B-9D79-10838D10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6B9DAE-74D4-4E9C-ACD0-B0E49FA2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F262D5-F7FE-4004-BAC1-C5CA3652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4EC1C3-0CC8-4AE4-A91E-E6EE56F7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D17E12-5413-4790-805B-19034EB1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262ECB-B37D-4D97-9A74-BD752A64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CF5FC3-CB44-4911-A5EB-C1A67806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AF69-977E-42F1-9ED7-F3AB7213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05CC5A-B3C8-413E-BA9C-9AFF1CA4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D0E9-B377-4F71-97B2-76AA17B8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DED6EF-8810-4582-A308-338CAE6F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E8BA37-50F6-4624-A270-BF4A284B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95EF37-854E-4965-9ABA-D0DE3E90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80FC61-7196-46CB-A660-7590C6EE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21A0AF-4DD6-47E5-A2C8-14BF5451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C0C030-5F6A-4319-914E-9C1830DC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6D5A85-CC67-4D5A-A282-30FB8ECD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0B7D-139D-4070-BCD0-7CA43B7F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76A1-E894-4BF7-A9E9-B7F0796D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1BD97C-9632-4FF9-A07A-BC21BA6B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91D9FC-68F6-4CE3-A861-60A1D375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320895-AAA0-473B-97B5-B102693A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C31C6C-21DE-4841-B03F-9FC534B7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2809BD-81F0-48B1-A818-322E4977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7CEC07-08DF-4875-8034-C3AA0574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7D7553-7985-471B-A866-361DE543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4704A1-37EB-4265-BF8E-4D17F283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758B8-316A-485E-9C17-380650C7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E9508F-A1E2-4B78-9969-DC374562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70DD-F06B-4A33-A50D-311106C7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76BB26-CBDC-40CD-B815-B7E9E9F2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94FE9D-8555-4B0D-8D0F-5438B914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87EDA5-A13B-43B9-B2CB-078C8BF8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6A7EFC-3645-480A-A173-C1189F76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D5EF8B-23B7-4D7A-A4BF-1B6ABEE3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F9E3E7-2215-4514-AD58-F107B17E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7C6A43-B4A9-461D-BBE1-F43FE47E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0E34D3-9CD8-4B1A-9FA3-18E7A28B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49F943-A7BF-4D91-832B-727A820E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CDDE60-06C6-421A-B441-BC655BE8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2A49-8879-45BC-9295-677C89BF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E049A0-70C1-43E2-B3D1-B0474560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93543E-9FE2-4A77-9540-F4F5612E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913DC5-6512-42EC-A0BF-F3FAF8C7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2F2106-B51F-4A21-8019-4F615C4B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A58CF1-2ECB-46D4-BE65-0ACAF3AA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3891B9-32D9-4A0A-9777-71F957C3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288084-D792-4290-BF1B-2710CA70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888296-8893-438F-9331-7EE01658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2A1A50-63E5-4CFD-8A7D-F4979AB2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8AF2AC-16AF-4F8E-B7AF-D037E62C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9A13-2CF1-4BCD-B327-BE0CDAFA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B2DCFD-C4C0-43CC-96AE-D2D3064A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20879A-AB68-4B6E-92A4-B10063C1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B472A1-DC3B-45EC-8977-F0ED4467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3B52A0-8043-49F2-8FF6-2DEE6F07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0F5880-D034-40A3-B002-F1D8C7B1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1BAFAF-8AF0-4FFA-B816-E6632B31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1AB5B1-4BC0-4B26-96E1-51EF951E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468D83-31C1-4B99-AD55-BDF9A184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D1C7A0-8590-4C23-88A5-D52EC304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6B37A5-67F1-4509-8E89-F8618980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4FEC-740A-4311-B6AE-A793A879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381046-7FDA-4AE8-88BE-89D47123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181203-DAD7-4805-A70D-28835BE1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BAD60A-9116-4F6E-AD5D-9CBE49B3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A626AA-463D-4EC1-ACFD-CD3C059D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E96C91-7338-457C-8A56-84E467CC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D084A6-D97F-429B-9D73-80603CD2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236A10-1781-49F5-B121-FABB0E84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28EACE-0D31-457B-95CA-886A03F1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0A4922-BC02-4A73-8D99-22E5BA9A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9DD001-9395-4B3B-83AD-1E4140B7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133E9-4168-466D-8E3E-BD8D316F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977B6D-0081-4D63-A968-D8CC9DB6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C5B159-D0B8-4660-BDE4-2B034B13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E27A21-B407-4362-92E4-B06F6DD9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546A92-F64E-4F72-B573-AC886062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3DE120-4829-42E3-B282-C2112771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A9C1F4-0E4C-4A38-88E8-E1F9D30B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EB5781-4783-4B8C-A11B-223155A6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14AB20-B67A-48B7-9F1B-9ED02F37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EE21EA-5AD1-45D9-9823-F7E13691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B9C911-4408-4EE9-808E-87CD7F63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AA183-8C75-4D1F-B8DA-BFB2F8E6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98A984-C53E-493B-880C-E4A3E590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73F0ED-D945-41B1-8132-4AA5CBCD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4CC1DD-1092-4940-9F22-6E9816B7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4F3D1B-928E-4E62-874E-71C73E97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4506DC-E3DA-4AAA-9794-9A176593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E25780-132E-4158-AE95-B048617E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63AB71-F739-4342-871B-2A8A7085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2C833D-EFD8-41CE-A0E0-ACB1CA7F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511C9B-BD07-40D5-8614-9EF42DC8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C2D9AF-F077-4509-BB40-D480927E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4758A-C5AF-4511-B669-73E7E467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13659F-2306-4B2C-B1D0-D63EEE03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FCEAF1-B7A4-4FE3-8FE9-96ED50C1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A1002E-5B49-4A4F-AF45-40A7AAAE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C30A3E-275A-4724-A56A-3A65033F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0EE68D-7540-46C0-923F-3C4FED08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D24DB8-3FE4-4369-A0D2-1EC7C0FC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04A6EE-EA5A-45F6-B017-41048674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4EE3DF-D5C7-4D25-BF44-01745F9A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0EE3A3-D504-4464-86D1-1E524912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41F850-96B5-4653-AD75-EB51DE3A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F9E4C-D1A2-45CD-A486-EAEE0E90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EB4A20-6AD7-4AD3-B22D-1F459693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5CB26F-600A-472D-9EF1-2FF31EED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5F8967-02F8-4EFB-8EBD-6DC7DD11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C342EC-D53B-42CC-B2F1-2CEB8EDB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C61A37-CDDC-4574-84CA-7E4CE9F0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9AD1FC-54C3-45F7-B094-593567DA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B0EC56-2173-4742-B55A-978E9025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DE4BEC-A52C-4C84-AC46-1C46DA7C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81FCBF-67A2-4DAC-9AF6-BC62AECC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8DEC3E-2E8F-4674-8460-15C378E7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10350-B369-4FD8-A44E-985E78BD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DDEB9F-0A38-4DC4-8D16-C3D0687F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74571A-5D59-4A1B-B8F4-BDE46FAE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5C7334-787E-4ABC-B7C2-E6F08E6C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3E8361-3DF8-47F2-B930-B79DD258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D56C1F-7EC7-467A-B426-C80F79EE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D52E75-1710-4713-AED6-A47481D5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CBD571-E551-4D2B-886A-3A028CAE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F0FB8C-9B2E-4ABE-8241-EAB07951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52BC10-2DB8-4630-B135-69DEACB1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8F214A-1E14-44B1-8A14-F1C04C02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4591-4B6F-473A-8C5C-AE57E012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02B8B-ABF1-44FB-8AFE-08432695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6EE579-3517-4C1D-ADEF-A7DA49B1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060ABA-965C-4783-8C8C-23D78787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E2FFD3-E623-4375-B2CC-C8759D3F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4A8B9F-7C17-4F6F-83D8-CDC49129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027946-0600-4369-BCA4-53074B76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0E9BDB-CB4A-4662-AC40-797DF76F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F10FEA-4EC9-4452-B436-1D0A6927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51E0DD-AE4F-4B47-A2E3-35D158D9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203D4D-F181-4F5A-880D-046F5310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C0B440-55BF-4CF5-9A2D-01801846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19E96-1AB5-47DA-97CF-4B24FAF6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A4FBBB-9512-4A80-9DE6-3D5D6BB4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3D4396-714D-4FFA-BE4E-11880EBB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F38DFC-271C-40FE-9EC4-A7463E47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1AF305-3038-4CC5-85AD-B266D311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D64C88-20BD-4943-BAE6-30FADD88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CAECF6-76DE-49D1-95CF-3D5E2E3B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CF2543-917D-4054-B098-B7C9B8AC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B15B8A-7889-4B20-A8DF-426B1538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6A6DE0-A416-4DDF-9C36-C77C699B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F8D68B-E574-4F74-BD9E-670865C8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5427A-054F-496C-9BC5-55C90AA5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14ABB8-5ADE-48AD-A705-BF095754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554641-33E2-42EC-BBA3-8EE044DE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923914-CA9B-474F-8467-8A5A5E26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984A51-5DCD-4B8A-8D58-7A5F4FB7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6AFC57-1040-4754-BFCF-75E52232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27D87-7D25-46CA-9301-CF7C6383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4B3C3-D305-48FD-8F46-E737F076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B0114-A7CC-4252-B9B5-20A3C8DA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C06DA-B27C-4FBC-9E55-0CE6A095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12BFD-61B8-49E1-866C-007CDE3A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6D254-FCE4-41CD-AB53-F3387003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13A8E-8A12-42B2-B611-688B42B4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CAE-B714-410F-986A-E26F156B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40E22-CC4D-461F-8E2C-08993911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3576D-6148-441A-9FBE-11F7AD0E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9098D-B61C-41C9-AF6F-200F2C59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9542E-8694-4E80-A88C-7665FF5F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2E22B-66BF-4E1A-B4A6-AC9D2059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F1010-D97E-4977-9757-CD97696C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3B8D9-4BCA-4DF3-82C5-FF9E36FC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0593E-68BA-41AD-9FBE-CD1DFE54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8E428-6E72-4E48-8814-029FD900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4B2A7-B657-41D3-94A9-1D4B91E4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478-C709-4F18-A9C2-4821B44D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2F2B6-41E7-441B-9EA6-05992D7B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42ECF-8356-4220-A2D3-29E6CE00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F851C-3E1C-4A26-ABE4-D311C5B5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33EE0-C492-4CB0-9533-94B07351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3134F-643E-494E-B652-C4728A59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84929-17DB-48D4-87E0-7EE00088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1AD5A-E02D-4A2B-BD9E-0025A55D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15431-98FD-43AB-BE08-F47F1CBA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F8EA2-2D32-41C7-9E93-1F4162E8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F54F4-22C7-4EA4-8D5A-D3235034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F0A-1C78-41C5-9EFE-7C50EC7B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357BE-936B-4913-8228-1E4627DC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8109F-A7A8-4472-92DE-ED30E79A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29F6A-E600-47BB-9A02-1CE31A51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63FCD-8939-4141-9A8D-6313E70B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2C422-AD44-472E-9BC8-275CB752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84410-586D-4F39-917E-7B4084CB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C5C4C-6857-4072-AA95-F55444EF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08FA5-5A54-4FCB-946B-26790D91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C8D9B-A2D6-4EAD-8EFC-EC65AF5F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C5770-87CB-4F90-BCD0-B3F4F2F4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411D-23B5-45EF-B135-92BCC2DA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08332-4402-4483-BDA8-8F13939A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F2EE3-226F-427F-AAEF-75FCB5DF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CA418-12A9-4680-AAA6-12F2E961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C9FAB-3A0B-4AC4-BCB4-FC0B2892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396F7-8BF1-420D-81B6-E65DB4DB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E2538-2AC2-4680-9391-98906138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3EFDC-67F6-4842-8D89-5C2CD0D6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0E719-4E78-41A6-8ABA-B68DAD38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81580-8331-4927-9199-6D56B121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78F29-986A-4B7A-9413-12B5A1BD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6EBB-F5B8-42F9-BB8D-11F7C4FE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EAE10-04F6-46B8-A702-72FD7F9A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A4B6A-0A09-4043-B4AD-D91EDE86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FFE7F-B344-4239-8177-8AF21994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DB97F-DC22-4D54-B94D-43D5BB97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7B2F9-FDFB-44D3-86F3-9B8D0B69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2C1F1-4C73-466F-BC0F-A2F98B66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964C5-F596-49FC-8920-AF9142CE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29F99-8A71-40D5-ACB0-1F681F8B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7C63B-AD37-47F8-84DB-5C3F26C3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9D520-1983-490D-90B7-31D0B342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333-801D-4506-9318-6E1C5170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B371D-42AB-4B6D-84AA-CB7E0AB1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FE908-44E9-49AA-8C2A-47F08823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37E13-3042-491B-B8AB-DC41E2CE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38C8C-4B45-4C1B-A9A1-F28DB602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039E8-C46D-4604-8206-B597A8DE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75619-CD6E-4540-A9AA-8F9CEEAC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9D221-A1CD-45F0-9D02-CB0C5001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E947D-268F-4FE5-BF8C-60F469EE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E636A-4DF0-491D-B082-9E841257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F2F09-2034-4161-B2EB-9DCF12C1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DDD5-5C87-484A-AA08-BB07B3D89C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@@@@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0A3F-35B0-49D8-A9BC-425E9A8150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BC86-A33E-45EA-981C-EB688E0E41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5073-8AFF-4A00-B717-FFE2FF9F94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7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8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9E7D-D7E0-4037-BA4F-6EDDBC4CE3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40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41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4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C743-B18D-4175-8046-DDE3255A82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4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4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4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88C1-6ED4-4365-A8DE-3781909ACD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7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B3C2-0716-450B-8CD5-D9C91B0F69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49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50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5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D798-D0E7-41C9-A34F-3EAB1F496B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52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53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5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9092-B737-45A2-82BC-50D72C33E4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6/20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.Kisel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DDCD-688C-4E6F-9F3D-1ADF2E0263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55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56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5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4447-877F-4CFF-AFAD-486E4C7914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8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59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6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4395-8E60-4C8D-B457-D0D3B88F1B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dt" idx="6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ftr" idx="62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sldNum" idx="6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53E3-6514-496F-B50C-0F3748DBC8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5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2F9F-7024-45CB-A929-907CD0DECF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dt" idx="67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ftr" idx="68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 type="sldNum" idx="6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1E80-0620-4686-9D6D-F0159A80B1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70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1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7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37CD-AA6A-4453-89EE-EA04CDB81C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dt" idx="7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ftr" idx="74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sldNum" idx="7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32F3-8676-44F2-9158-38E32D6E05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7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15f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77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15f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7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15f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5FB6-22BE-455A-889A-0F46B008ABE6}" type="slidenum">
              <a:rPr b="0" lang="ru-RU" sz="1400" spc="-1" strike="noStrike">
                <a:solidFill>
                  <a:srgbClr val="515f7b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515f7b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2089-AD91-4A34-ABFD-A85A1BCFBB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@@@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B915-3CDB-4725-AF4B-EAC108703A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78BA-EF53-4146-8418-87E6A00295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8494-10C8-475A-9647-BF29F13E02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BAEF-24F5-4175-A699-9E0778209F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8B57-3866-4055-9897-C064860DC1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FB16-A309-41F9-883A-1C09567CDE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sPHENIX calorimeter setup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43" name="Rectangle 3"/>
          <p:cNvSpPr/>
          <p:nvPr/>
        </p:nvSpPr>
        <p:spPr>
          <a:xfrm>
            <a:off x="380880" y="1676520"/>
            <a:ext cx="4953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20x20 mm</a:t>
            </a:r>
            <a:r>
              <a:rPr b="0" lang="en-US" sz="2000" spc="-1" strike="noStrike" baseline="30000">
                <a:solidFill>
                  <a:srgbClr val="515f7b"/>
                </a:solidFill>
                <a:latin typeface="Tahoma"/>
                <a:ea typeface="ＭＳ Ｐゴシック"/>
              </a:rPr>
              <a:t>2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wedged “towers”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length 100mm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tungsten; epoxy; 1mm diameter fibers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7 fiber layers per tower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20x20 “matrix”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electrons [1..8] GeV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inclination angles [5..40] degrees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144" name="Picture 7" descr="phenix.png"/>
          <p:cNvPicPr/>
          <p:nvPr/>
        </p:nvPicPr>
        <p:blipFill>
          <a:blip r:embed="rId1"/>
          <a:srcRect l="30000" t="0" r="31876" b="0"/>
          <a:stretch/>
        </p:blipFill>
        <p:spPr>
          <a:xfrm>
            <a:off x="5410080" y="914400"/>
            <a:ext cx="348624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sPHENIX calorimeter resolution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146" name="Picture 6" descr="phenix-de.gif"/>
          <p:cNvPicPr/>
          <p:nvPr/>
        </p:nvPicPr>
        <p:blipFill>
          <a:blip r:embed="rId1"/>
          <a:stretch/>
        </p:blipFill>
        <p:spPr>
          <a:xfrm>
            <a:off x="990720" y="1676520"/>
            <a:ext cx="707688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eSTAR calorimeter resolution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148" name="Picture 6" descr="femc-orig.gif"/>
          <p:cNvPicPr/>
          <p:nvPr/>
        </p:nvPicPr>
        <p:blipFill>
          <a:blip r:embed="rId1"/>
          <a:stretch/>
        </p:blipFill>
        <p:spPr>
          <a:xfrm>
            <a:off x="990720" y="1676520"/>
            <a:ext cx="7076880" cy="4195800"/>
          </a:xfrm>
          <a:prstGeom prst="rect">
            <a:avLst/>
          </a:prstGeom>
          <a:ln w="0">
            <a:noFill/>
          </a:ln>
        </p:spPr>
      </p:pic>
      <p:sp>
        <p:nvSpPr>
          <p:cNvPr id="1149" name="TextBox 10"/>
          <p:cNvSpPr/>
          <p:nvPr/>
        </p:nvSpPr>
        <p:spPr>
          <a:xfrm>
            <a:off x="4307760" y="1066680"/>
            <a:ext cx="48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3 degree track-to-tower-axis incident angle!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7T15:22:56Z</dcterms:created>
  <dc:creator>Alexander Kiselev</dc:creator>
  <dc:description/>
  <dc:language>en-US</dc:language>
  <cp:lastModifiedBy>Alexander Kiselev</cp:lastModifiedBy>
  <dcterms:modified xsi:type="dcterms:W3CDTF">2013-07-17T15:49:46Z</dcterms:modified>
  <cp:revision>447</cp:revision>
  <dc:subject/>
  <dc:title>BNL interview talk (June 2012)</dc:title>
</cp:coreProperties>
</file>